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0F-4EF4-49B9-AC46-F6E6FA7A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D3F-374E-4916-9518-3DA73A8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5CA-A077-49AF-A129-53F9D6D1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FC5-CD00-477B-9B0D-32726064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77D-4989-4647-AE07-4384C78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9A2-C770-4A2F-8D0C-755EAE4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1CD-17D7-4CA9-AAD5-90D90BB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E10-5117-47D3-89F1-4EDEEC33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536-2883-47EA-B424-449CCD12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996-A98C-46C4-94BE-AAD5B0D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8A0-14F0-416F-AC61-6F6673B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EC9-D726-4829-B519-E9213DBD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BE6-ADBD-4944-AE78-E813A6AC05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.jpg"/>
          <p:cNvPicPr/>
          <p:nvPr/>
        </p:nvPicPr>
        <p:blipFill>
          <a:blip r:embed="rId1"/>
          <a:stretch/>
        </p:blipFill>
        <p:spPr>
          <a:xfrm>
            <a:off x="571680" y="1832040"/>
            <a:ext cx="1293480" cy="111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ext W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I am trying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get this tex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o wr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his is of course no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supported in any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PowerPoint version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date.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286160" y="214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j0431520.png"/>
          <p:cNvPicPr/>
          <p:nvPr/>
        </p:nvPicPr>
        <p:blipFill>
          <a:blip r:embed="rId1"/>
          <a:stretch/>
        </p:blipFill>
        <p:spPr>
          <a:xfrm>
            <a:off x="285840" y="171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Irregular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You will need to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use more tab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tops if the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hape is not rectangular or maybe the odd spa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8:48:33Z</dcterms:created>
  <dc:creator>John Wilson</dc:creator>
  <dc:description/>
  <dc:language>en-US</dc:language>
  <cp:lastModifiedBy>John Wilson</cp:lastModifiedBy>
  <dcterms:modified xsi:type="dcterms:W3CDTF">2008-03-27T10:31:40Z</dcterms:modified>
  <cp:revision>10</cp:revision>
  <dc:subject/>
  <dc:title>Slide 1</dc:title>
</cp:coreProperties>
</file>